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D38D2-948F-4CBD-82A0-CF4B908DB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D6F7E-BEBB-4967-9224-020965C18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C80EA-A633-40DF-9266-0962BC5BD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A1291-43BE-47AD-8674-72332151A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5FBEC-8993-4CAD-BD58-54DFC446C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D2507-56D7-4CBF-B9D7-83342F68A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42FE9-01FF-4318-A90F-9711E0C01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C2593-B3AB-4B2C-8632-D04566236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69671-1261-457D-8FBA-D53A5314E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9E4DC-FCF4-4F1E-A304-964FBB158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F5D6B-9F56-4848-85B7-A51A2271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0F639-A803-4612-8164-5AA2127DD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7C8E4-8E3C-474D-9E48-02C57C47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57C13-8971-4261-AE62-7F0CE198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B0A75-1C39-4033-AEB9-D28BE1492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1AC97-B1BA-4DD6-990C-01A53A083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1EFB0-314B-403A-9CFE-82AAF9686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595B4-5E55-4E96-A8B7-EDA68A116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47651-8F44-4F51-8005-9D88A3CB7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37BB5-528C-4132-A3DE-81321C93A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123AB-8CB8-4877-90AB-DBAF3CB4B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2BA67-83D8-4DCD-B101-C95A6C72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4DB2A-2B9A-46EB-8D3E-02473A93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6B73F-3FAF-4C49-8209-D53A5B8B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96345-9E11-4B27-BAE7-1A4AC7C8DF56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76FAF-A883-4F30-97FC-B825FA983B40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31:58Z</dcterms:modified>
  <cp:revision>61</cp:revision>
  <dc:subject/>
  <dc:title>幻灯片 1</dc:title>
</cp:coreProperties>
</file>